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57A2-FCFD-489E-A30C-47223989FCF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 tent embassy was first stared in 1972 outside the parliament house in Canberra, because the land was important to Aboriginal people. It is made of a large group of activists sig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 Aboriginal people sets an embassy, because they want to show people how important the land was to them and also to show their righ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 tent embassy was made outside the parliament house in Canberra, because the land was important to Aboriginal people. It is made of a large group of activists sig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 Aboriginal people sets an embassy, because they want to show people how important the land was to them and also to show their righ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is people are important to tent embassy, because they were the leaders, they were all aboriginals activities and both women and 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is sign tells us that Aboriginal people had a very hard life. Eg: for their future children and their black un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36 years, which shows us that they don’t give and still fight for their la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7506-0550-42E5-9477-4CF52D58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7169-8F14-4AE9-A0DB-B6032493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4925-E144-49C6-9450-D179C2D3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CC7B-44DC-46A6-A5F9-34B71E01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B82A-82B0-4B89-85B5-338F88BA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768A-9E77-46B6-A474-FEAAC278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8023-F686-47CB-9C07-B99306DF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99B-29D5-4BD7-B14F-5D1D1A41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1CAD-B13E-479B-84EB-2D203598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BA4-C11A-4688-834A-61F8EEE5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9844-531B-4759-937E-FACAF5C4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6226-5D7E-4851-9D71-A33328A3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7B86-ABEB-44C4-84DF-9BDDA741A574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ary_Foley" TargetMode="External"/><Relationship Id="rId2" Type="http://schemas.openxmlformats.org/officeDocument/2006/relationships/hyperlink" Target="http://en.wikipedia.org/wiki/Chicka_Dixon" TargetMode="External"/><Relationship Id="rId3" Type="http://schemas.openxmlformats.org/officeDocument/2006/relationships/hyperlink" Target="http://en.wikipedia.org/wiki/Pearl_Gibbs" TargetMode="External"/><Relationship Id="rId4" Type="http://schemas.openxmlformats.org/officeDocument/2006/relationships/hyperlink" Target="http://en.wikipedia.org/wiki/Paul_Coe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659640" y="549360"/>
            <a:ext cx="1297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Edwardian Script ITC"/>
              </a:rPr>
              <a:t>The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Edwardian Script ITC"/>
              <a:ea typeface="Edwardian Script ITC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76720" y="1916280"/>
            <a:ext cx="35402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Edwardian Script ITC"/>
              </a:rPr>
              <a:t>Aborigina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Edwardian Script ITC"/>
              <a:ea typeface="Edwardian Script ITC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32360" y="4653000"/>
            <a:ext cx="3456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Edwardian Script ITC"/>
              </a:rPr>
              <a:t>Embassy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Edwardian Script ITC"/>
              <a:ea typeface="Edwardian Script ITC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5229360"/>
            <a:ext cx="29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orte"/>
              </a:rPr>
              <a:t>By: Malaz &amp; </a:t>
            </a:r>
            <a:r>
              <a:rPr b="1" lang="en-US" sz="1200" spc="-1" strike="noStrike">
                <a:solidFill>
                  <a:srgbClr val="000000"/>
                </a:solidFill>
                <a:latin typeface="Forte"/>
              </a:rPr>
              <a:t>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Started in 1972 on 26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 Januar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ent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Outside Parliament, Canber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311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Edwardian Script ITC"/>
              </a:rPr>
              <a:t>Why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and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ght fair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air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ght for their Repa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lack 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nd to discrimi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989000"/>
            <a:ext cx="51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22050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844640"/>
            <a:ext cx="9288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ary Fol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hicka Dixon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earl Gibbs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aul Co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994360" y="0"/>
            <a:ext cx="314964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4427640" y="1773360"/>
            <a:ext cx="2104920" cy="1892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6516720" y="2637000"/>
            <a:ext cx="2309760" cy="3024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4500720" y="3573360"/>
            <a:ext cx="191124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oda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306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go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dn’t give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e for their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1:14:36Z</dcterms:created>
  <dc:creator>Reservoir District Secondary College</dc:creator>
  <dc:description/>
  <dc:language>en-US</dc:language>
  <cp:lastModifiedBy>DE&amp;T User</cp:lastModifiedBy>
  <dcterms:modified xsi:type="dcterms:W3CDTF">2008-06-05T05:00:50Z</dcterms:modified>
  <cp:revision>4</cp:revision>
  <dc:subject/>
  <dc:title>Slide 1</dc:title>
</cp:coreProperties>
</file>